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867-24DB-4633-818B-BFE89D4B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B80-AB82-4501-B2AF-DFEB2444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D1A-9F8B-4283-AD30-B499B530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A60-8AD4-4ADD-8CCC-004F6266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E3D9-6ED4-44BE-A801-76386460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F7C1-E67B-48AD-BF17-14A50B84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18B6-4849-4435-B1F8-E685AA0A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BE4B-1B30-4258-9219-023314B0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BFC7-E439-44FC-A0D1-38996AD1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1B30-B104-4F66-897F-958476BC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FE1B-544E-4220-8A1E-304EF4AD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BF2-1DAD-41D0-8535-8416C1A9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9DA8-D0D0-4B88-A71D-CF2A9C2A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AE2D-1ECE-4AF8-9FD1-50F39F86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14E4-19CD-4D24-AF28-64CD3E78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BB4E-B77D-45B2-9B3B-1097D0B1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C4F0-2AA2-4F87-A9EA-2589F9FB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0B1-6006-4967-825E-1E942707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9F0-D28F-42CE-A718-0DFBF28A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27C-432B-493F-B4AC-5C1175E7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0C1-A0D0-4B47-A1EF-0952934E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172-1578-45F5-A4B7-F969DD7E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A75-2886-428C-8060-24E64170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CD9-F395-467A-B9F4-6F644F28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03C0-9759-47E6-B9E3-C5F852A76D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EDB7-8B75-4A07-BF4E-F1D8FC4B9C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otepage.ne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Blogging in the 21</a:t>
            </a:r>
            <a:r>
              <a:rPr b="0" lang="en-US" sz="4400" spc="-1" strike="noStrike" baseline="30000">
                <a:solidFill>
                  <a:srgbClr val="703dff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 Centur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ina Ruggie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Blogs for K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Blogs help kids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ing out the writer in th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ds love having an audience. They will have instant recognition and approva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 good spelling habits, grammar skills, and develop a love for writing at a young a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nnovative concept that has potential benef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00240" y="1828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og Connection. Retrieved July 24, 2009, Web site: http://www.blog-connection.c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ron Housley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notepage.ne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a bl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g is short 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eblo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’s a personal and public journal or diary on the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way for kids to connect to their global pe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’s the wave of the future and a new way to communic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95680" y="4267080"/>
            <a:ext cx="2895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Where Did Blogs Come Fro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gging began in the mid 1990’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-191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not clear who the very first blogger w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-191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rt of blogging took hold of the technological world in 1999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-191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very first blogs were Internet web tou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-191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ly thought of as diaries or online journals, blogs have evolved into the latest web conten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7161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df00"/>
                </a:solidFill>
                <a:latin typeface="Comic Sans MS"/>
              </a:rPr>
              <a:t>Blogs are the Latest Craze in Commun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Blogging is a connection to the world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all types of blog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sonal Blo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- shares your thoughts and ideas with the world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siness Blog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a way to keep in touch with customers, suppliers, or prospective custome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hoto Blo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- online photo album to share photos with family and friend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mily Blo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- helps family stay in touch by posting family new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munity Blo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- team schedules, meeting updates, and information for community membe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What Does Blogging Cre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ommunity buil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Metacogn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Global aware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Relev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isual litera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7192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Information litera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ersonal learning environ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earning moment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ontinual and personal professional develop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84680" y="4724280"/>
            <a:ext cx="1498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Benefits of Blogging for K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sponsibility and Commit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daily posts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ular updates require children to be disciplined and responsibl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increased communication with friends and relativ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exposure to innovative  Internet technologies that help them with communication ski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90720" y="2335320"/>
            <a:ext cx="27716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Continued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proved Writing Skil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- when presented with an audience, children will want to present their best wor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proved Editing Skills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iting daily entries will help children learn how to present their ideas clearly and professionally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proved Spelling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utomated spell-checking helps children be aware of spelling errors when they occu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yping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 children familiar with keyboards at a young age quickly making them proficient typist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A New Era of Journa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Comic Sans MS"/>
              </a:rPr>
              <a:t>From pen &amp; paper journaling to online journaling…a leap into the 21</a:t>
            </a:r>
            <a:r>
              <a:rPr b="0" i="1" lang="en-US" sz="2800" spc="-1" strike="noStrike" baseline="30000">
                <a:solidFill>
                  <a:srgbClr val="ff0066"/>
                </a:solidFill>
                <a:latin typeface="Comic Sans MS"/>
              </a:rPr>
              <a:t>st</a:t>
            </a:r>
            <a:r>
              <a:rPr b="0" i="1" lang="en-US" sz="2800" spc="-1" strike="noStrike">
                <a:solidFill>
                  <a:srgbClr val="ff0066"/>
                </a:solidFill>
                <a:latin typeface="Comic Sans MS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ine spaces of writing though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grates knowledge as a personal refl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riches experi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24600" y="1828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New Era Continued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1200" y="1862280"/>
            <a:ext cx="3581280" cy="3590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s an emotional attachment knowing others will read pos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a wider audience for ide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s learners and makes learning collaborative and powerfu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entury learning will connect students and adults with their global pe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4:26:43Z</dcterms:created>
  <dc:creator>Serina Ruggiero</dc:creator>
  <dc:description/>
  <dc:language>en-US</dc:language>
  <cp:lastModifiedBy>Serina Ruggiero</cp:lastModifiedBy>
  <dcterms:modified xsi:type="dcterms:W3CDTF">2009-07-28T21:20:03Z</dcterms:modified>
  <cp:revision>6</cp:revision>
  <dc:subject/>
  <dc:title>Blogging in 2009</dc:title>
</cp:coreProperties>
</file>